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173-4C3F-4560-8255-D6875539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2D8-ACE6-44BE-8D15-221953A9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C77-3A40-4D31-BDE8-C493C33E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3AB-702D-4D8A-B17C-39BF52FD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DE4E-7D09-46A2-B602-59BE717B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1E17-EC11-4430-AB4A-4218A0CE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F7E2-AEB6-405A-AA04-D2339ADF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0940-7BAB-4228-97E8-AD4E69A9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0281-8519-4B02-AE88-ECC99BF1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E18B-D1FD-4BD7-A011-32FA1809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DEA1-E3A3-486B-9862-3340D6CB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925-13C7-43FC-8AE2-832FBC78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8572-3DE2-4024-A219-E5BD31BC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E198-FE8A-40A8-8D8E-71148856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99B9-B466-4DDD-9949-5C6D5B16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CF8D-00F6-4454-9B77-6B79CEFF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8F0D-D645-4843-8F7C-6047CB0E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0E64E-4C2D-4C71-98C4-068F3771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4A6D1-3743-444B-95F2-144FA245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EE92E-6FDB-4B78-A6E7-4566467A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D1B53-D0FE-4BF4-ABA9-F213BE98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BCE1F-5D00-46A3-95D8-EE1C6637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C0A-0CD4-4264-967D-8DCB70AD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AF2E5-BEC0-43EB-A17D-C913D2F7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4820B-4AFC-4929-ABC2-D56A59FF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B9815-FE0F-47DB-B9F0-6AABF5B4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53307-7C6B-404B-B001-17AA8912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55A03-DBDB-4CF5-880E-CC55E16D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0A0F6-2496-4766-A732-0F61CA61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8068-37E6-44A0-886D-D622C849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6004A-863C-4DF2-B59C-14F99CDA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E686A-0132-4973-A876-B1DD50B3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CF1C3-08F0-4B62-8681-1526D6E4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2A28-E83C-4EDE-A751-521DF40F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4D810-5142-4785-9902-28D7EE9E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F001C-82D4-4198-9D24-6D691215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BB115-D1E9-4D8E-A63C-9C5716B1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B1549-C11E-4E69-A117-CB452B70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E2532-B11E-4E30-9C18-C07D343A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56F4D-553D-4BC1-8628-08AB12AB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96F0C-FF55-4006-BD1F-F5E92DDA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6F6CA-22B5-4754-83AD-B00FE9E2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48291-78AA-4CFE-B427-2EE85543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E7E-358E-4AA6-ACA0-8802C539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C43-81C4-4137-BE81-17F80AD7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327-8BFB-4AC3-93D4-BDA43FDF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4BF-FA55-42E4-949D-715B3952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FCF-D780-43DB-B5C4-424D3D4B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58649-1BB5-4FE8-9C99-62D18650F259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03599-4A63-4375-BC5F-A964991194A6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EF95D-7599-4813-BE73-FDD16B07E09A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8AA81-DFDA-4B64-844F-B6DD6DBF7688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7" descr=""/>
          <p:cNvPicPr/>
          <p:nvPr/>
        </p:nvPicPr>
        <p:blipFill>
          <a:blip r:embed="rId1"/>
          <a:stretch/>
        </p:blipFill>
        <p:spPr>
          <a:xfrm>
            <a:off x="946080" y="520560"/>
            <a:ext cx="2911680" cy="58896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8"/>
          <p:cNvSpPr/>
          <p:nvPr/>
        </p:nvSpPr>
        <p:spPr>
          <a:xfrm>
            <a:off x="4705200" y="789120"/>
            <a:ext cx="678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Мастерская Самсона Суханова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3" name="Picture 2" descr="Vasily Tropinin 19.jpg"/>
          <p:cNvPicPr/>
          <p:nvPr/>
        </p:nvPicPr>
        <p:blipFill>
          <a:blip r:embed="rId2"/>
          <a:stretch/>
        </p:blipFill>
        <p:spPr>
          <a:xfrm>
            <a:off x="4378320" y="2795760"/>
            <a:ext cx="2610000" cy="3286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Saint Isaac's Cathedral in SPB.jpeg"/>
          <p:cNvPicPr/>
          <p:nvPr/>
        </p:nvPicPr>
        <p:blipFill>
          <a:blip r:embed="rId3"/>
          <a:stretch/>
        </p:blipFill>
        <p:spPr>
          <a:xfrm>
            <a:off x="8096400" y="2795760"/>
            <a:ext cx="2609640" cy="1723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ttps://upload.wikimedia.org/wikipedia/commons/thumb/e/e5/%D0%A8%D0%B0%D1%80_%D0%A1%D1%82%D1%80%D0%B5%D0%BB%D0%BA%D0%B8_%D0%92.%D0%9E.jpg/175px-%D0%A8%D0%B0%D1%80_%D0%A1%D1%82%D1%80%D0%B5%D0%BB%D0%BA%D0%B8_%D0%92.%D0%9E.jpg"/>
          <p:cNvPicPr/>
          <p:nvPr/>
        </p:nvPicPr>
        <p:blipFill>
          <a:blip r:embed="rId4"/>
          <a:stretch/>
        </p:blipFill>
        <p:spPr>
          <a:xfrm>
            <a:off x="8096400" y="4668840"/>
            <a:ext cx="26096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307800" y="307800"/>
            <a:ext cx="6874200" cy="1554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Прямоугольник 1"/>
          <p:cNvSpPr/>
          <p:nvPr/>
        </p:nvSpPr>
        <p:spPr>
          <a:xfrm>
            <a:off x="561960" y="49536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1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ся углубление для основания колонны радиус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см. Число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3. Какой длины и площади будет основание колонны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9" name="Picture 4" descr="Колонна ионическая из натурального камня — купить декор для отделки фасада"/>
          <p:cNvPicPr/>
          <p:nvPr/>
        </p:nvPicPr>
        <p:blipFill>
          <a:blip r:embed="rId1"/>
          <a:stretch/>
        </p:blipFill>
        <p:spPr>
          <a:xfrm>
            <a:off x="7404120" y="789120"/>
            <a:ext cx="2784600" cy="27860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4"/>
          <p:cNvSpPr/>
          <p:nvPr/>
        </p:nvSpPr>
        <p:spPr>
          <a:xfrm>
            <a:off x="647640" y="2443320"/>
            <a:ext cx="6443640" cy="3849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 = 2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 = 2*3* 500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000(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м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 = 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² = 3*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00² = 3*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0000 =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750000 (см²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вет: С=3000см,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=750000c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647640" y="3724200"/>
            <a:ext cx="2228760" cy="7146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Прямоугольник 6"/>
          <p:cNvSpPr/>
          <p:nvPr/>
        </p:nvSpPr>
        <p:spPr>
          <a:xfrm>
            <a:off x="2876400" y="3724200"/>
            <a:ext cx="2003400" cy="6984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4879800" y="3716280"/>
            <a:ext cx="1994040" cy="7146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647640" y="4410000"/>
            <a:ext cx="2154240" cy="47808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2801880" y="4422600"/>
            <a:ext cx="1763640" cy="46548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Прямоугольник 10"/>
          <p:cNvSpPr/>
          <p:nvPr/>
        </p:nvSpPr>
        <p:spPr>
          <a:xfrm>
            <a:off x="4565520" y="4430880"/>
            <a:ext cx="2308320" cy="4572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Прямоугольник 11"/>
          <p:cNvSpPr/>
          <p:nvPr/>
        </p:nvSpPr>
        <p:spPr>
          <a:xfrm>
            <a:off x="2293920" y="4900680"/>
            <a:ext cx="3076560" cy="4604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647640" y="5373720"/>
            <a:ext cx="6443640" cy="62856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307800" y="307800"/>
            <a:ext cx="6874200" cy="1554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561960" y="49536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2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боковой поверхности колонны равна 150 м². Сколько потребуется краски, чтобы покрасить колонну, если на 1м² расходуется 200г краски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2" name="Picture 4" descr="Колонна ионическая из натурального камня — купить декор для отделки фасада"/>
          <p:cNvPicPr/>
          <p:nvPr/>
        </p:nvPicPr>
        <p:blipFill>
          <a:blip r:embed="rId1"/>
          <a:stretch/>
        </p:blipFill>
        <p:spPr>
          <a:xfrm>
            <a:off x="7404120" y="789120"/>
            <a:ext cx="2784600" cy="278604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4"/>
          <p:cNvSpPr/>
          <p:nvPr/>
        </p:nvSpPr>
        <p:spPr>
          <a:xfrm>
            <a:off x="647640" y="2443320"/>
            <a:ext cx="6443640" cy="3849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50 * 200 = 30000(г)= 30 (кг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вет: 30кг краски потребуетс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1063800" y="3765600"/>
            <a:ext cx="2228760" cy="7142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3249720" y="3773520"/>
            <a:ext cx="2003400" cy="69840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5229360" y="3765600"/>
            <a:ext cx="1420560" cy="71424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1779480" y="4762440"/>
            <a:ext cx="4346640" cy="1206720"/>
          </a:xfrm>
          <a:prstGeom prst="rect">
            <a:avLst/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4"/>
          <p:cNvSpPr/>
          <p:nvPr/>
        </p:nvSpPr>
        <p:spPr>
          <a:xfrm>
            <a:off x="639720" y="1305000"/>
            <a:ext cx="6475320" cy="493848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1512720" y="349200"/>
            <a:ext cx="8620200" cy="64260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Легенды Александровской колонн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981000" y="1496880"/>
            <a:ext cx="576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Трудно поверить, но поначалу горожане опасались приближаться к новому сооружению из-за боязни быть погребенными под его руинами. Такие слухи имели под собой некоторое основание: при установке фигуры ангела на вершине колонны поначалу планировалось само на вершие изготовить из гранита, но в последний момент гранит заменили обычной кирпичной кладкой. К тому же колонна не закреплена, а удерживается на основании под тяжестью своего веса. Оскорбленный недоверием публики Монферран ежедневно прогуливался рядом с колонной со своей собачкой, стремясь развеять пустые страхи обывателей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Рисунок 3" descr=""/>
          <p:cNvPicPr/>
          <p:nvPr/>
        </p:nvPicPr>
        <p:blipFill>
          <a:blip r:embed="rId1"/>
          <a:stretch/>
        </p:blipFill>
        <p:spPr>
          <a:xfrm>
            <a:off x="7176960" y="179712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3T17:13:33Z</dcterms:created>
  <dc:creator>RePack by Diakov</dc:creator>
  <dc:description/>
  <dc:language>en-US</dc:language>
  <cp:lastModifiedBy>RePack by Diakov</cp:lastModifiedBy>
  <dcterms:modified xsi:type="dcterms:W3CDTF">2021-11-04T10:50:14Z</dcterms:modified>
  <cp:revision>7</cp:revision>
  <dc:subject/>
  <dc:title>Презентация PowerPoint</dc:title>
</cp:coreProperties>
</file>